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CEA-9DDD-4805-B54E-E5F8A378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19D-C0B6-44A2-BEB6-A365493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F85-7521-4BFF-B529-A2DD053E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1EC-8891-43B8-A5DB-32790ACD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2F10-1B36-4983-87E6-7518C43F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DC71-9350-4E24-AC72-ED7B9B3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512B-6264-4FD3-B092-2F1D90D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9E86-0682-46EE-858A-E5E4E62C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731-0536-4D6A-9D52-6F921959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A079-7977-48C3-AFCA-A3CA0A0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8E1-8E4A-4137-9265-DB70889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1B6-B9F5-4C81-B834-8EF9402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4302-2D04-4FBD-B862-3DCC193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E47-B0B8-42D7-99C1-6283359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E79-CF1C-4E92-B53B-91CB223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9CB-C20C-4E0D-8F2B-789A161C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79F-84AA-424E-8BB9-5798CF75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E39-0FC4-4EA3-9396-6A8E155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114-0B46-472F-B7B1-BAC73071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2C7-AA60-496C-B63E-EB0122B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993-4C5A-4B44-9BD2-E75FA52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F17-DB6E-491B-BCE8-55D857BA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9EA-324E-46D0-8B93-081A6DD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D75-2240-4B9F-A875-A6816D0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644-0D0D-4F47-80D0-CF8A712480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9ED-5DE8-496F-B663-71C6829328E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1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esson 3: What’s Your Health Status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the value of writing down your promises and dating the contract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1814400" cy="1697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2495520" cy="315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400800" y="3962520"/>
            <a:ext cx="16225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osing Questions/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the term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isk behavio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Give 2 examp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dentify 2 ways, other than a personal inventory, to perform self-assess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purpose of a personal wellness contrac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301760" cy="1825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5254560"/>
            <a:ext cx="1523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LL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List at least 10 health problems that you think are preventable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ample: Obe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777000">
            <a:off x="6095880" y="3047760"/>
            <a:ext cx="2151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ere You Are and Where You’re Go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most important influence on your health is YOU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of the keys to overall wellness is the prevention of health problem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Prevention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involves taking steps to make sure that something unhealthy does not happ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Risk Behavior: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n action or choice that may cause injury or harm to you or othe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1121400">
            <a:off x="7881480" y="4995720"/>
            <a:ext cx="760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onal Inventory p. 1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a separate sheet of paper, write yes or no to tell whether each statement describes yo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yourself one point for every yes. Total the number of yes responses in each of the three are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838520" cy="1784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05720" y="4876920"/>
            <a:ext cx="20066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eck your score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each section, a score of 9-10 is very g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-8 is go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-6 is fai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scored 0-4 in any area, you need to take a more active role in avoiding risk behaviors that can harm your healt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3827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owth and Develop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olescence often involves emotional ups and downs – the teen mood swings familiar to many teachers and pare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changes in emotional outlook are a part of growing up, but they can be difficult for young people to hand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5181480"/>
            <a:ext cx="1833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 openly with a trus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er or adul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t enough res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ercis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t a health di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uss your health status with a health care profession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k your school nurse for information about health care topic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1349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have I learne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rough self-assessment you can learn about your own behaviors and possible risks you are taking. Part of this process involves making jud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the risks represented in the Personal Inventory are equal. Skipping breakfast one morning will not put your life in danger, however, not wearing a seatbelt would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367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 Personal Wellness Contrac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 yourself the questions on page 17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ok back at the ideas you have written. Use those ideas to make a personal wellness contract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gure 1.5 shoes one form that this contract might ta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5429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33:24Z</dcterms:created>
  <dc:creator>GSCS</dc:creator>
  <dc:description/>
  <dc:language>en-US</dc:language>
  <cp:lastModifiedBy>GSCS</cp:lastModifiedBy>
  <dcterms:modified xsi:type="dcterms:W3CDTF">2010-09-20T15:58:47Z</dcterms:modified>
  <cp:revision>4</cp:revision>
  <dc:subject/>
  <dc:title>Chapter 1</dc:title>
</cp:coreProperties>
</file>